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Lucida Handwriting"/>
              </a:rPr>
              <a:t>Click to move the slide</a:t>
            </a: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31210-6663-4AD8-9EFA-101F3373F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FF1B6-A7D0-4B92-8F9C-175774848117}" type="slidenum">
              <a:rPr b="0" lang="en-US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6C654-7388-4834-B341-2DE4A93833A9}" type="slidenum">
              <a:rPr b="0" lang="en-US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7946D-57D5-469D-A89D-8E0A7A6460F5}" type="slidenum">
              <a:rPr b="0" lang="en-US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57E5B-AE65-4733-AF13-EA8D4D98D7E7}" type="slidenum">
              <a:rPr b="0" lang="en-US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37726-84A2-41D3-9C3B-F3A8E0122FA9}" type="slidenum">
              <a:rPr b="0" lang="en-US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96C8-EF6D-4BB6-91B8-B563131A4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905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90AA-8EE3-4012-9E22-7104ACAD9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905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142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2002-4CCD-4142-AD85-20E8342F8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129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905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519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129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F34A-1CF4-4F5D-9B12-AAE582F1C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905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C82D-5346-4274-9A13-5F9CEC181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0E5A-65B9-4C52-8046-BFCCE34D1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C59C-49D8-428D-A4A3-F592FF603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E266-90D0-4D7B-9B29-0F96E890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4C05-8DA5-4C08-951E-4C8C5EC24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905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07C8-A42B-45FD-BF43-3CB144AD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142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E963-52C9-4FA2-8C21-09386F22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905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87F9-5DBC-4A85-9A36-0AD100C7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Lucida Handwriting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905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52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  <a:ea typeface="MS P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DC7D8-86DA-49D5-85D2-4426CD01005D}" type="slidenum">
              <a:rPr b="0" lang="en-US" sz="1400" spc="-1" strike="noStrike">
                <a:solidFill>
                  <a:srgbClr val="ffff00"/>
                </a:solidFill>
                <a:latin typeface="Arial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914040"/>
            <a:ext cx="807732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Lucida Handwriting"/>
              </a:rPr>
              <a:t>Happy 228th Birthday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Lucida Handwriting"/>
              </a:rPr>
              <a:t>US Constitution </a:t>
            </a:r>
            <a:endParaRPr b="0" lang="en-US" sz="44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590560" y="3733920"/>
            <a:ext cx="6095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stitution Day/ Citizenship Da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ptember 17th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23720" y="60912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Lucida Handwriting"/>
              </a:rPr>
              <a:t>Structure of the Constitution</a:t>
            </a: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eamble- Establishes 6 Goals that have still remained over 200 years lat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rticle I- Legislative Branch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rticle II- Executive Branch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rticle III- Judicial Branch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se three articles outline separation of powers and checks and balanc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5905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rticle IV- Clarifies relationship between national and state gov’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rticle V-Amendment Proces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rticle VI-Supremacy of National law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rticle VII- Ratification proces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Lucida Handwriting"/>
              </a:rPr>
              <a:t>Constitution </a:t>
            </a: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Lucida Handwriting"/>
              </a:rPr>
              <a:t>Constitution Structure</a:t>
            </a: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5905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ill of Rights + Amendment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7 Amendment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791- Bill of Rights added to ensure for the ratification of Constitu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5480" y="6091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Lucida Handwriting"/>
              </a:rPr>
              <a:t>Ratification of the  Constitution</a:t>
            </a: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819520" y="251460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gned on September 17, 1787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ubmitted to States for approva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pecial conventions were hel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erce Debate took plac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ederalists &amp; Anti-Federalis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Lucida Handwriting"/>
              </a:rPr>
              <a:t>Electoral College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Lucida Handwriting"/>
              </a:rPr>
              <a:t>Required   270 to Win</a:t>
            </a:r>
            <a:endParaRPr b="0" lang="en-US" sz="2000" spc="-1" strike="noStrike">
              <a:solidFill>
                <a:srgbClr val="ffff00"/>
              </a:solidFill>
              <a:latin typeface="Lucida Handwriting"/>
            </a:endParaRPr>
          </a:p>
        </p:txBody>
      </p:sp>
      <p:pic>
        <p:nvPicPr>
          <p:cNvPr id="59" name="Content Placeholder 3" descr="2012-Electoral-College-map.jpg"/>
          <p:cNvPicPr/>
          <p:nvPr/>
        </p:nvPicPr>
        <p:blipFill>
          <a:blip r:embed="rId1"/>
          <a:srcRect l="0" t="2681" r="0" b="2681"/>
          <a:stretch/>
        </p:blipFill>
        <p:spPr>
          <a:xfrm>
            <a:off x="380880" y="1143000"/>
            <a:ext cx="8182080" cy="55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23720" y="60912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Lucida Handwriting"/>
              </a:rPr>
              <a:t>Anti-Federalist Argument</a:t>
            </a: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layer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ssu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28640" y="60912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Lucida Handwriting"/>
              </a:rPr>
              <a:t>Federalist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Lucida Handwriting"/>
              </a:rPr>
              <a:t>Argument </a:t>
            </a: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layer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ssu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6T13:27:30Z</dcterms:created>
  <dc:creator>WPS</dc:creator>
  <dc:description/>
  <dc:language>en-US</dc:language>
  <cp:lastModifiedBy>WPS</cp:lastModifiedBy>
  <dcterms:modified xsi:type="dcterms:W3CDTF">2015-09-11T13:04:27Z</dcterms:modified>
  <cp:revision>12</cp:revision>
  <dc:subject/>
  <dc:title>Happy 222nd Birthday  US Constitution </dc:title>
</cp:coreProperties>
</file>